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EC9-73A8-4061-AA3F-864EA13D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0B5-6676-4603-B298-59D8AEE7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024-FFF1-4C61-973E-F045A0EC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39E-B1B2-4136-A3FE-1A6B9C48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37933-6B71-45AA-B290-DF6D8418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CCEE-357D-4689-9375-0F7EA7B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11CFB-69B3-4F87-BC43-82925AF7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BF6FF-55C6-423A-8676-8008133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15459-F98C-4467-BCD8-9FCA272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77FC2-2536-4BF3-9F8A-E23D9C4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6E81F-3E99-4F55-8A3C-F9EB384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153-E4F0-484C-BE45-1CDD9EB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184DB-2A5D-4FA1-B3FE-FB860524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E4187-1E8E-4E61-A096-ECAEC50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8856A-929F-4E78-AE33-61F5DC91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53B57-B23D-4C87-9994-F7B87604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FAEEA-C023-4D6F-9968-228C1C4D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5E4-584E-4905-A400-1AC8EF64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863-AEA7-4589-88FB-BD6BA3E3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D7B-36C3-416E-9D2C-21906AE6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E21-37F4-4CD4-BD52-5F8EFFDE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976-A474-4AC5-B29A-40C3BDC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BCB-AD87-4115-836E-D84CCF6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EBC-DDD2-4805-9B13-B809309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4D3-D6EB-438F-A3C0-4A388C881D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C7DF-D6D0-4283-BA75-DE67A8C8B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608200" cy="2629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Caribbea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15000" y="3200400"/>
            <a:ext cx="3129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raction Between Humans and The Enviro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land for farming, ranching, and building hou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climate - air conditioners are used in buildings to c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ion is used to bring water to dry land for farm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groves swamps cleared out for beach space for increased tour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raction Between Humans and The Enviro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 sugar cane to make large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in mountains (Greater Antilles) because it grows well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ing bananas in tropical regions for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s in flood areas are built on stilts to keep above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wood and charcoal used for energy because of lack of energy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ries attract tourists to already nice climates with cruise ships, resort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mland 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bbean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llean 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Ant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er Antil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Savan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grove Sw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8288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colon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T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ba’s Comm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ant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TZ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shore Ba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ist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Trade Area of the Ame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o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-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aribbean Sea, in between North and South America, and East and North East of Central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ct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rth to 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to 6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ibbean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llean I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er Anti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up of Cuba, Jamaica, Hispaniola (Haiti and Dominican republic), and Puerto Ri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er Antil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up of small islands from the virgin islands to Tri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Savan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grove Sw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2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m year-round because of proximity to 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undant rainfall- 80+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fferent amounts of rainfall due to Inter-Tropical Convergency Z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ore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stal pol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mland Fore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stal zone of the main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ic – Rhythmic b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– mostly European languages, (Spanish, French, English, and Dutch dominate other languag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olization – Blending of cultures like African, Euporean, Amerin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n – Voodoo in Haiti, Cuba, and Ja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tation – mono-crop p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igration – when Asians immigrated, indentured labor was made so there would be no labor shor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ons and African diaspora – Africans were take nfrom their homes and forced to be sla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V/AIDS – There are about 3x the amount of people in the Caribbean with HIV/AIDS than in the 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rtility Decline – Cuba now allows abortion and birth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ion – Caribbean diaspora – people from here move all around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ular Migration – A temporary move where individuals move for work overs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n migration – Moving to a certain dest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ies – Mechanization of agriculture, offshore industirialization, rapid growth population, (rural-to-urban mig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ribbean people use boats to travel from island to is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is are also used to move around in the c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planes to fly in and out of the Caribbe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people emigrated to other Caribbean islands, North America, and Europe because of the region’s limited economic opportun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ibbean Diaspora- the economic flight of Caribbean peoples across the gl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ve T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or related mi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ur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away sl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n Mi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ular Mi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2381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ibbean languages have origins in African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 cultures are merged with many Caribbean festivals and original cultures such as the Ciboney, the Taino, and the Cari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blends with European, African, Asian, and Middle Eastern influ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ization- African and European cultures blended in the Caribb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ation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ian Im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- African col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5:48:58Z</dcterms:created>
  <dc:creator>NPSD</dc:creator>
  <dc:description/>
  <dc:language>en-US</dc:language>
  <cp:lastModifiedBy>NPSD</cp:lastModifiedBy>
  <dcterms:modified xsi:type="dcterms:W3CDTF">2009-12-18T15:58:04Z</dcterms:modified>
  <cp:revision>8</cp:revision>
  <dc:subject/>
  <dc:title>5 Themes of Geography The Caribbean</dc:title>
</cp:coreProperties>
</file>